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  <p:sldId id="304" r:id="rId61"/>
    <p:sldId id="305" r:id="rId6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slide" Target="slides/slide49.xml"/><Relationship Id="rId62" Type="http://schemas.openxmlformats.org/officeDocument/2006/relationships/slide" Target="slides/slide5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49184-D81D-48E5-AAC4-EF4D49775F7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49FE7-C1DA-447B-850B-2C567F9B1CE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78EBC-8D9C-4336-8231-669911905BC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3843D-C422-4321-87CB-06C4997E8C5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4D1D5-A34A-4D1B-82A0-E80D50DE614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9A5A5-A40F-4D58-A4E1-CE6505CFB1D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91A7F-EDA1-4D5A-8E65-BA242CAB6E6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BDCBD-ED9C-4AA7-96DA-E0B6EAAC642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2B1C5-C2C5-4DFB-B32A-26B2C60707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475C1-E950-4B6A-BB53-BCD6BC93CE1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83D25-2F1D-4161-906F-BE29D7F032C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C04DB-D8EA-4524-A5B1-ACB3623691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AF588-9F18-497A-8BCD-E7ACC5113D0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AC24A-7966-45AE-9679-FFB78D43EBF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CD9C6-39AA-400F-92E6-BED65B2B8DD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ACA5F-BA43-4307-ADA6-C4BFBCA32B5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E6836-5D5D-4847-B9F9-30DC8FB682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A2A9A-4151-4738-8C2C-E25ABD10580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77149-227B-48B1-BBF8-3E1E0020D6E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0C7F7-7349-49A2-A6D1-F3B18263A4A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5F667-44D6-4023-85E2-4604458051E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0E8C2-2F45-4210-B024-1BD57C8E79E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36A93-DF15-47B2-8C06-C3FF2010AB2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7C30A-0868-474A-8B7B-899788F6BD1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hyperlink" Target="http://www.semantic-web-grundlagen.de/" TargetMode="External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hyperlink" Target="http://www.semantic-web-grundlagen.de/" TargetMode="Externa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6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7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cfefe"/>
              </a:gs>
              <a:gs pos="100000">
                <a:srgbClr val="de332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94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8" descr=""/>
          <p:cNvPicPr/>
          <p:nvPr/>
        </p:nvPicPr>
        <p:blipFill>
          <a:blip r:embed="rId5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Num" idx="2"/>
          </p:nvPr>
        </p:nvSpPr>
        <p:spPr>
          <a:xfrm>
            <a:off x="12661920" y="9410400"/>
            <a:ext cx="3427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F4FC-3DE7-48F0-96F7-8054990A2A6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6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7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cfefe"/>
              </a:gs>
              <a:gs pos="100000">
                <a:srgbClr val="de332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3"/>
          <p:cNvSpPr>
            <a:spLocks noGrp="1"/>
          </p:cNvSpPr>
          <p:nvPr>
            <p:ph type="sldNum" idx="1"/>
          </p:nvPr>
        </p:nvSpPr>
        <p:spPr>
          <a:xfrm>
            <a:off x="12661920" y="9410400"/>
            <a:ext cx="3427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9D86-9CC1-4DD0-81E0-2A11734F673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1" descr=""/>
          <p:cNvPicPr/>
          <p:nvPr/>
        </p:nvPicPr>
        <p:blipFill>
          <a:blip r:embed="rId2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un.org/%23" TargetMode="External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http://www.semantic-web-grundlagen.de/index.php/Kapitel_2" TargetMode="External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w3.org/2000/01/rdf-schema%23" TargetMode="External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3.org/2000/01/rdf-schema%23" TargetMode="External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1"/>
          <p:cNvSpPr/>
          <p:nvPr/>
        </p:nvSpPr>
        <p:spPr>
          <a:xfrm>
            <a:off x="127008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127008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Lehrveranstaltung im WS09/10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CC4A-EDBB-4A03-B72F-535C9355546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 und Instanz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270080" y="1981080"/>
            <a:ext cx="11531520" cy="901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ypisierung von Ressourcen bereits in RDF zur Kennzeichnung von Listen: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Prädikat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type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weist dem Subjekt das Objekt als Typ zu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Objekt aufgefasst als Bezeichner für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Klasse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, der die durch das Subjekt bezeichnete Ressource (als sog.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Instanz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) angehört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79" name="Picture 3" descr=""/>
          <p:cNvPicPr/>
          <p:nvPr/>
        </p:nvPicPr>
        <p:blipFill>
          <a:blip r:embed="rId1"/>
          <a:stretch/>
        </p:blipFill>
        <p:spPr>
          <a:xfrm>
            <a:off x="3808440" y="3213000"/>
            <a:ext cx="8066160" cy="2616480"/>
          </a:xfrm>
          <a:prstGeom prst="rect">
            <a:avLst/>
          </a:prstGeom>
          <a:ln w="0">
            <a:noFill/>
          </a:ln>
        </p:spPr>
      </p:pic>
      <p:sp>
        <p:nvSpPr>
          <p:cNvPr id="480" name="Oval 4"/>
          <p:cNvSpPr/>
          <p:nvPr/>
        </p:nvSpPr>
        <p:spPr>
          <a:xfrm>
            <a:off x="3835440" y="4559400"/>
            <a:ext cx="2921040" cy="1409760"/>
          </a:xfrm>
          <a:prstGeom prst="ellipse">
            <a:avLst/>
          </a:prstGeom>
          <a:noFill/>
          <a:ln w="6336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EBC4-537B-4B0F-8962-FB2C08ADD88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 und Instanz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  rdf:type  ex:Lehrbuch 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harakterisiert „Semantic Web - Grundlagen“ als Instanz der (neu definierten) Klasse „Lehrbuch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nzugehörigkeit ist nicht exklusiv, z.B. mit o.g. Tripel gleichzeitig möglich: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  rdf:type  ex:Unterhaltsam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llgemein: a priori syntaktisch keine eindeutige Unterscheidung zwischen Individuen- und Klassenbezeichnern möglich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uch in der Realität Charakterisierung manchmal schwierig, beispielsweise für</a:t>
            </a:r>
            <a:br>
              <a:rPr sz="3200"/>
            </a:br>
            <a:r>
              <a:rPr b="0" lang="en-US" sz="3200" spc="-1" strike="noStrike" u="sng">
                <a:solidFill>
                  <a:srgbClr val="009999"/>
                </a:solidFill>
                <a:uFillTx/>
                <a:latin typeface="American Typewriter"/>
                <a:ea typeface="American Typewriter"/>
                <a:hlinkClick r:id="rId1"/>
              </a:rPr>
              <a:t>http://www.un.org/#URI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CB93-17AF-431E-86D0-1E7A08C310B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ie Klasse aller 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jedoch manchmal eindeutige Kennzeichnung einer URI als Klassenbezeichner wünschenswer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öglich durch Typung der betreffenden URI als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lass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s:Lehrbuch   rdf:type   rdfs:Class   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lass 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st also die „Klasse aller Klassen“ und enthält sich damit auch selbst, d.h. das folgende Tripel ist immer wahr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lass   rdf:type   rdfs:Class   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65D1-ACB4-43BF-A73A-7770B421939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Unterklassen - Motiv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77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gegeben Tripe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  rdf:type  ex:Lehrbuch 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Problem: Suche nach Instanzen der Klasse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ex:Buch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liefert kein Resulta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öglichkeit: Hinzufügen von Tripe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  rdf:type  ex:Buch 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löst das Problem aber nur für die eine Ressourc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utomatisches Hinzufügen für alle Instanzen führt zu unnötig großen RDF-Dokument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4390-BB6F-420D-8458-838A3CEA93F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Unter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innvoller: einmalige Aussage, dass jedes Lehrbuch auch ein Buch ist, d.h. jede Instanz der Klass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ist automatisch auch eine Instanz der Klass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c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ealisiert durch di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-Property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rdfs:subClassOf   ex:Buch  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„Die Klasse der Lehrbücher ist eine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Unterklasse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der Klasse der Bücher.“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C206-B5CE-40A4-9227-B6BC6B30933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Unter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1000"/>
          </a:bodyPr>
          <a:p>
            <a:pPr marL="630720" indent="-4053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-Property ist reflextiv, d.h. jede Klasse ist Unterklasse von sich selbst, so dass z.B. gilt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rdfs:subClassOf   ex:Lehrbuch  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630720" indent="-4053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mgekehrt: Festlegung der Gleichheit zweier Klassen durch gegenseitige Unterklassenbeziehung, etwa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ospital   rdfs:subClassOf   ex:Krankenhaus 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Krankenhaus   rdfs:subClassOf   ex:Hospital 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6307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630720" indent="-4053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ealisiert durch di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-Property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rdfs:subClassOf   ex:Buch  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„Die Klasse der Lehrbücher ist eine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Unterklasse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der Klasse der Bücher.“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15F1-B90F-4353-904E-DF24AE6E6AF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hierarchi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Üblich: nicht nur einzelne Unterklassenbeziehungen sondern ganze </a:t>
            </a:r>
            <a:r>
              <a:rPr b="0" i="1" lang="en-US" sz="4000" spc="-1" strike="noStrike">
                <a:solidFill>
                  <a:srgbClr val="000000"/>
                </a:solidFill>
                <a:latin typeface="Helvetica Neue"/>
              </a:rPr>
              <a:t>Klassenhierarchien 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(auch: </a:t>
            </a:r>
            <a:r>
              <a:rPr b="0" i="1" lang="en-US" sz="4000" spc="-1" strike="noStrike">
                <a:solidFill>
                  <a:srgbClr val="000000"/>
                </a:solidFill>
                <a:latin typeface="Helvetica Neue"/>
              </a:rPr>
              <a:t>Taxonomien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z.B.: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 rdfs:subClassOf   ex:Buch 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ch             rdfs:subClassOf   ex:Printmedium 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Zeitschrift   rdfs:subClassOf   ex:Printmedium 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in RDFS-Semantik verankert: Transitivität der </a:t>
            </a: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-Property, d.h. es folgt automatisch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  rdfs:subClassOf   ex:Printmedium 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59E4-8EA1-4CE0-A83C-F0B3EF6755F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hierarchi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nhierarchie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besonders ausgepräg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twa in Biologie (z.B.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Klass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fikation von Lebe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wes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.B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oologische Einord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ung des modern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ensch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7429680" y="1847880"/>
            <a:ext cx="5562360" cy="78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:RDF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xmlns:rdf="http://www.w3.org/1999/02/22-rdf-syntax-ns#"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xmlns:rdfs="http://www.w3.org/2000/01/rdf-schema#"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xmlns:ex="http://www.semantic-web-grundlagen.de/Beispiele#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Animalia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Tiere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Chordata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Chordatiere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Animalia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Mammalia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S¨augetiere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Chordata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Primates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Primaten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Mammalia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inidae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Menschenaffen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Primates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o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Mensch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Hominidae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oSapiens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Moderner Mensch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Homo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ex:HomoSapiens rdf:about="&amp;ex;SebastianRudolph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:RDF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6AB2-2F5D-45F5-9CC0-47D6C8C297A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tuitive Parallele zur Mengenlehre:</a:t>
            </a:r>
            <a:br>
              <a:rPr sz="4200"/>
            </a:b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type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                entspricht            </a:t>
            </a:r>
            <a:r>
              <a:rPr b="0" lang="en-US" sz="54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∈</a:t>
            </a:r>
            <a:br>
              <a:rPr sz="5400"/>
            </a:b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   entspricht     </a:t>
            </a:r>
            <a:r>
              <a:rPr b="0" lang="en-US" sz="13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     </a:t>
            </a:r>
            <a:r>
              <a:rPr b="0" lang="en-US" sz="54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⊆</a:t>
            </a:r>
            <a:endParaRPr b="0" lang="en-US" sz="5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chtfertigt beispielsweise auch die Reflexivität und Transitivität von </a:t>
            </a: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68F0-339C-4154-AB2A-3D886C20170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 in RDF/XML-Syntax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kürzte Darstellungen bei Angabe von Klasseninstanzen möglich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ex:HomoSapiens rdf:about="&amp;ex;SebastianRudolph"/&gt;</a:t>
            </a:r>
            <a:br>
              <a:rPr sz="2600"/>
            </a:br>
            <a:br>
              <a:rPr sz="26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 Stelle von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:Description rdf:about= "&amp;ex;SebastianRudolph"&gt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&lt;rdf:type rdf:resource= "&amp;ex;HomoSapiens"&gt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&lt;/rdf:Description&gt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mentsprechend auch</a:t>
            </a:r>
            <a:br>
              <a:rPr sz="42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oSapiens"/&gt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9" name=""/>
          <p:cNvGraphicFramePr/>
          <p:nvPr/>
        </p:nvGraphicFramePr>
        <p:xfrm>
          <a:off x="687240" y="3683160"/>
          <a:ext cx="6070680" cy="5483160"/>
        </p:xfrm>
        <a:graphic>
          <a:graphicData uri="http://schemas.openxmlformats.org/drawingml/2006/table">
            <a:tbl>
              <a:tblPr/>
              <a:tblGrid>
                <a:gridCol w="6070680"/>
              </a:tblGrid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XM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junktive Anfragen / Einführung Regelsprachen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eln für OW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tology Engineer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- Anwendun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69720" y="1638000"/>
            <a:ext cx="1046484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RDF Schema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269720" y="288252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7346880" y="3309840"/>
            <a:ext cx="4622760" cy="3891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7345440" y="3325680"/>
            <a:ext cx="4626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7346880" y="3676680"/>
            <a:ext cx="463248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45" name="Picture 6" descr=""/>
          <p:cNvPicPr/>
          <p:nvPr/>
        </p:nvPicPr>
        <p:blipFill>
          <a:blip r:embed="rId1"/>
          <a:stretch/>
        </p:blipFill>
        <p:spPr>
          <a:xfrm>
            <a:off x="7532640" y="3906720"/>
            <a:ext cx="4280040" cy="443088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7"/>
          <p:cNvSpPr/>
          <p:nvPr/>
        </p:nvSpPr>
        <p:spPr>
          <a:xfrm>
            <a:off x="7643880" y="5780160"/>
            <a:ext cx="32544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Rectangle 8"/>
          <p:cNvSpPr/>
          <p:nvPr/>
        </p:nvSpPr>
        <p:spPr>
          <a:xfrm>
            <a:off x="8507520" y="8313840"/>
            <a:ext cx="176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Rectangle 9"/>
          <p:cNvSpPr/>
          <p:nvPr/>
        </p:nvSpPr>
        <p:spPr>
          <a:xfrm>
            <a:off x="7643880" y="4502160"/>
            <a:ext cx="411624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8150400" y="454644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Rectangle 11"/>
          <p:cNvSpPr/>
          <p:nvPr/>
        </p:nvSpPr>
        <p:spPr>
          <a:xfrm>
            <a:off x="7480440" y="3848040"/>
            <a:ext cx="4457520" cy="4876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1" name="Picture 12" descr=""/>
          <p:cNvPicPr/>
          <p:nvPr/>
        </p:nvPicPr>
        <p:blipFill>
          <a:blip r:embed="rId2"/>
          <a:srcRect l="33175" t="59995" r="21726" b="32560"/>
          <a:stretch/>
        </p:blipFill>
        <p:spPr>
          <a:xfrm>
            <a:off x="8940960" y="6591240"/>
            <a:ext cx="1930320" cy="33012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63"/>
          <p:cNvSpPr/>
          <p:nvPr/>
        </p:nvSpPr>
        <p:spPr>
          <a:xfrm>
            <a:off x="660240" y="4545000"/>
            <a:ext cx="6108840" cy="431640"/>
          </a:xfrm>
          <a:prstGeom prst="rect">
            <a:avLst/>
          </a:prstGeom>
          <a:noFill/>
          <a:ln w="8892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Rectangle 64"/>
          <p:cNvSpPr/>
          <p:nvPr/>
        </p:nvSpPr>
        <p:spPr>
          <a:xfrm>
            <a:off x="-12600" y="9455040"/>
            <a:ext cx="15011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entspricht dem zweiten Teil von Kapitel 3 des Buches „Semantic Web - Grundlagen“ - siehe auch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Helvetica Neue"/>
                <a:ea typeface="Helvetica Neue"/>
                <a:hlinkClick r:id="rId3"/>
              </a:rPr>
              <a:t>http://www.semantic-web-grundlagen.de/index.php/Kapitel_3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B088-10CE-4155-A1E3-8429B4F0B8D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ordefinierte Klassenbezeichne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Resour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 aller Ressourcen (also sämtliche Elemente des Gegenstandsbereiches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Proper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 aller Beziehung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(= die Ressourcen, die durch Prädikats-URIs referenziert werden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List, rdf:Seq, rdf:Bag, rdf:Alt, rdfs:Contain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n verschiedener Arten von List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MembershipProper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 aller Beziehungen, die eine Enthaltenseinsbeziehung darstell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88C7-A3F7-47AD-B901-2E78778D9F8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ordefinierte Klassenbezeichne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824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XMLLiter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 aller Werte des vordefinierten Datentyps XMLLitera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Liter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 aller Literalwerte (enthält also alle Datentypen als Unterklass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Datatyp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 aller Datentypen (ist also wie rdfs:Class eine Klasse von Klass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tateme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 aller reifizierten Aussagen (s. dort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908F-D49D-4419-9EC4-7A34FAED4FB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1C75-9414-42CA-9C17-6DDD0CB2A79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Property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ndere Bezeichnungen: Relationen, Beziehung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chtung: Propertys sind in RDF(S) nicht (wie in OOP) speziellen Klassen zugeodne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perty-Bezeichner in Tripeln üblicherweise an Prädikatsstell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harakterisieren, auf welche Art zwei Ressourcen zueinander in Beziehung steh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mathematisch oft dargestellt als Menge von Paare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verheiratet_mit = {(Adam,Eva),(Brad,Angelina),...}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URI wird als Property-Bezeichner gekennzeichnet durch entsprechende Typung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legtBei   rdf:type   rdf:Property  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2C86-91CD-4634-89BA-57A46F14BAD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Unterproperty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69800" y="2425680"/>
            <a:ext cx="12420720" cy="675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-3049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ähnlich zu Unter-/Oberklassen auch Unter-/Oberpropertys denkbar und sinnvoll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-3049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Darstellung in RDFS mittels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PropertyOf</a:t>
            </a: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z.B.: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ex:glücklichVerheiratetMit   rdf:subPropertyOf   rdf:verheiratetMit   .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-3049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rlaubt, aus dem Tripel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Markus </a:t>
            </a: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ex:glücklichVerheiratetMit    ex:Anja   .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zu schlussfolgern,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dass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Markus  </a:t>
            </a: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heiratetMit    ex:Anja   .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EB90-F8A0-4627-A276-DE22487E423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006A-833D-433B-A2BB-35F65892F8B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schränkung von Property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häufig: Property kann sinnvoll nur ganz bestimmte Ressourcen verbinden, z.B. verbindet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legtBei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nur Publikationen mit Verlagen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d.h. für alle URIs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, b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folgt aus dem Tripe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   ex:verlegtBei   b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dass auch gilt: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   rdf:type   ex:Publikation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b   rdf:type   ex:Verlag   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kann in RDFS direkt kodiert werden: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ex:verlegtBei   rdfs:domain   ex:Publikation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ex:verlegtBei   rdfs:range      ex:Verlag   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auch zur Angabe von Datentypen für Literale: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ex:hatAlter   rdfs:range   xsd:nonNegativeInteger   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8962-A249-47C3-9080-A826DC22E73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schränkung von Property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Propertyeinschränkungen bieten die einzige Möglichkeit, semantische Zusammenhänge zwischen Propertys und Klassen zu spezifizier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Achtung: Propertyeinschränkungen wirken global und konjunktiv, z.B.</a:t>
            </a: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autorVon   rdfs:range   ex:Kochbuch   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autorVon   rdfs:range   ex:Märchenbuch   . </a:t>
            </a: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bedeutet: jede Entität, von der jemand Autor ist, ist </a:t>
            </a:r>
            <a:r>
              <a:rPr b="1" lang="en-US" sz="3400" spc="-1" strike="noStrike">
                <a:solidFill>
                  <a:srgbClr val="000000"/>
                </a:solidFill>
                <a:latin typeface="Helvetica Neue"/>
              </a:rPr>
              <a:t>gleichzeitig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Kochbuch und Märchenbuch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aher: als domain/range immer allgemeinste mögliche Klasse verwend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08C4-573D-40AB-8848-4F065C98AF0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2BA5-102F-4196-AD5A-6B2C1BEB042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rbeit mit offenen 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zur Erinnerung: offene Listen in RDF: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39" name="Picture 3" descr=""/>
          <p:cNvPicPr/>
          <p:nvPr/>
        </p:nvPicPr>
        <p:blipFill>
          <a:blip r:embed="rId1"/>
          <a:stretch/>
        </p:blipFill>
        <p:spPr>
          <a:xfrm>
            <a:off x="1039680" y="3098880"/>
            <a:ext cx="10923840" cy="3543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8446-8FCC-4F8A-B13E-14540D44EBC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00AD-4A42-42CA-BF3A-5F17E441ED5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rbeit mit offenen 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neue Klasse: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als Oberklasse von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eq, rdf:Bag, rdf:Alt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neue Klasse: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MembershipProperty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lemente sind keine Individuen i.e.S. sondern selbst Propertys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intendierte Semantik: jede Property, die aussagt, dass das Subjekt im Objekt enthalten ist, ist Instanz von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MembershipProperty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s gilt also insbesondere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_1   rdf:type   rdfs:ContainerMembershipProperty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_2   rdf:type   rdfs:ContainerMembershipProperty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tc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5D68-2C37-44E7-B4EA-F57334B48A9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rbeit mit offenen 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neue Property: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member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Oberproperty aller in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MembershipProperty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nthaltenen Propertys, also die „universelle Enthaltenseinsrelation“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damit in RDFS-Semantik verankert: wann immer für eine Property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das Tripe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p </a:t>
            </a:r>
            <a:r>
              <a:rPr b="0" lang="en-US" sz="47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rdf:type   rdfs:ContainerMembershipProperty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gilt,</a:t>
            </a:r>
            <a:r>
              <a:rPr b="0" lang="en-US" sz="47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folgt aus dem Tripe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 </a:t>
            </a:r>
            <a:r>
              <a:rPr b="0" lang="en-US" sz="47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p   b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sofort</a:t>
            </a:r>
            <a:r>
              <a:rPr b="0" lang="en-US" sz="47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das Tripe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</a:t>
            </a:r>
            <a:r>
              <a:rPr b="0" lang="en-US" sz="47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rdfs:member   b   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9AAC-5DC0-48DB-9AE4-BE0AFD2310A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AF70-08A1-4140-9B92-3C3680A1F71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81756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blematisch in RDF(S): Modellierung von Aussagen über Aussagen (häufig zu erkennen am Wort„dass“), z.B.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Helvetica Neue"/>
              </a:rPr>
              <a:t>„Der Detektiv vermutet, </a:t>
            </a:r>
            <a:r>
              <a:rPr b="1" i="1" lang="en-US" sz="3200" spc="-1" strike="noStrike">
                <a:solidFill>
                  <a:srgbClr val="000000"/>
                </a:solidFill>
                <a:latin typeface="Helvetica Neue"/>
              </a:rPr>
              <a:t>dass</a:t>
            </a:r>
            <a:r>
              <a:rPr b="0" i="1" lang="en-US" sz="3200" spc="-1" strike="noStrike">
                <a:solidFill>
                  <a:srgbClr val="000000"/>
                </a:solidFill>
                <a:latin typeface="Helvetica Neue"/>
              </a:rPr>
              <a:t> der Butler den Gärtner ermordet hat.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1756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erster Modellierungsversuch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ex:detektiv ex:vermutet "Der Butler hat den Gärtner ermordet."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22652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ungünstig: auf Literal-Objekt kann schlecht in anderen Aussagen Bezug genommen werden (keine URI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1756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zweiter Modellierungsversuch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ex:detektiv  ex:vermutet  ex:derButlerHatDenGärtnerErmordet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22652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ungünstig: innere Struktur der dass-Aussage geht verlor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3DE4-E5E7-4A65-B8E7-A758C74803F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blematisch in RDF(S): Modellierung von Aussagen über Aussagen (häufig zu erkennen am Wort„dass“), z.B.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Helvetica Neue"/>
              </a:rPr>
              <a:t>„Der Detektiv vermutet, </a:t>
            </a:r>
            <a:r>
              <a:rPr b="1" i="1" lang="en-US" sz="3200" spc="-1" strike="noStrike">
                <a:solidFill>
                  <a:srgbClr val="000000"/>
                </a:solidFill>
                <a:latin typeface="Helvetica Neue"/>
              </a:rPr>
              <a:t>dass</a:t>
            </a:r>
            <a:r>
              <a:rPr b="0" i="1" lang="en-US" sz="3200" spc="-1" strike="noStrike">
                <a:solidFill>
                  <a:srgbClr val="000000"/>
                </a:solidFill>
                <a:latin typeface="Helvetica Neue"/>
              </a:rPr>
              <a:t> der Butler den Gärtner ermordet hat.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einzelne dass-Aussage leicht in RDF modellierbar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ex:butler   ex:hatErmordet   ex:gärtner  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wünschenswert: ganzes RDF-Tripel als Objekt eines anderen Tripels; ist aber kein gültiges RDF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3CB9-2BC7-4B84-8057-D2AC9E003BA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Lösung (ähnlich wie bei mehrwertigen Beziehungen): Hilfsknoten für die geschachtelte Aussag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7" name="Oval 2"/>
          <p:cNvSpPr/>
          <p:nvPr/>
        </p:nvSpPr>
        <p:spPr>
          <a:xfrm>
            <a:off x="165240" y="7404120"/>
            <a:ext cx="11023560" cy="2184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9" name="Oval 4"/>
          <p:cNvSpPr/>
          <p:nvPr/>
        </p:nvSpPr>
        <p:spPr>
          <a:xfrm>
            <a:off x="584280" y="7988400"/>
            <a:ext cx="2361960" cy="101592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tler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Oval 5"/>
          <p:cNvSpPr/>
          <p:nvPr/>
        </p:nvSpPr>
        <p:spPr>
          <a:xfrm>
            <a:off x="4025880" y="3200400"/>
            <a:ext cx="2768760" cy="111744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detektiv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Oval 6"/>
          <p:cNvSpPr/>
          <p:nvPr/>
        </p:nvSpPr>
        <p:spPr>
          <a:xfrm>
            <a:off x="3530520" y="7620120"/>
            <a:ext cx="3861000" cy="114300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atErmorde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Oval 7"/>
          <p:cNvSpPr/>
          <p:nvPr/>
        </p:nvSpPr>
        <p:spPr>
          <a:xfrm>
            <a:off x="7848720" y="7975440"/>
            <a:ext cx="2755800" cy="1041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gärtner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Rectangle 8"/>
          <p:cNvSpPr/>
          <p:nvPr/>
        </p:nvSpPr>
        <p:spPr>
          <a:xfrm>
            <a:off x="4212360" y="4872960"/>
            <a:ext cx="2382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mute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Rectangle 9"/>
          <p:cNvSpPr/>
          <p:nvPr/>
        </p:nvSpPr>
        <p:spPr>
          <a:xfrm>
            <a:off x="3912120" y="7933680"/>
            <a:ext cx="30852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atErmorde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Line 10"/>
          <p:cNvSpPr/>
          <p:nvPr/>
        </p:nvSpPr>
        <p:spPr>
          <a:xfrm flipH="1" flipV="1">
            <a:off x="2941200" y="8473680"/>
            <a:ext cx="4915080" cy="2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Line 11"/>
          <p:cNvSpPr/>
          <p:nvPr/>
        </p:nvSpPr>
        <p:spPr>
          <a:xfrm flipH="1" flipV="1">
            <a:off x="5418000" y="4333680"/>
            <a:ext cx="15840" cy="1355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Oval 12"/>
          <p:cNvSpPr/>
          <p:nvPr/>
        </p:nvSpPr>
        <p:spPr>
          <a:xfrm>
            <a:off x="4140360" y="5689440"/>
            <a:ext cx="2641320" cy="10162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theorie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Line 13"/>
          <p:cNvSpPr/>
          <p:nvPr/>
        </p:nvSpPr>
        <p:spPr>
          <a:xfrm flipH="1" flipV="1">
            <a:off x="5417640" y="4333680"/>
            <a:ext cx="33480" cy="3098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Line 14"/>
          <p:cNvSpPr/>
          <p:nvPr/>
        </p:nvSpPr>
        <p:spPr>
          <a:xfrm flipH="1" flipV="1">
            <a:off x="6560640" y="6480000"/>
            <a:ext cx="1770120" cy="1648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Line 15"/>
          <p:cNvSpPr/>
          <p:nvPr/>
        </p:nvSpPr>
        <p:spPr>
          <a:xfrm flipV="1">
            <a:off x="2674800" y="6479640"/>
            <a:ext cx="1727280" cy="1698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Line 16"/>
          <p:cNvSpPr/>
          <p:nvPr/>
        </p:nvSpPr>
        <p:spPr>
          <a:xfrm flipV="1">
            <a:off x="5451480" y="6705360"/>
            <a:ext cx="0" cy="94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Rectangle 17"/>
          <p:cNvSpPr/>
          <p:nvPr/>
        </p:nvSpPr>
        <p:spPr>
          <a:xfrm>
            <a:off x="1494360" y="6790680"/>
            <a:ext cx="2103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ubjec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Rectangle 18"/>
          <p:cNvSpPr/>
          <p:nvPr/>
        </p:nvSpPr>
        <p:spPr>
          <a:xfrm>
            <a:off x="4181400" y="6917760"/>
            <a:ext cx="25459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predicate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Rectangle 19"/>
          <p:cNvSpPr/>
          <p:nvPr/>
        </p:nvSpPr>
        <p:spPr>
          <a:xfrm>
            <a:off x="7440840" y="6790680"/>
            <a:ext cx="18964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objec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878F-E1C8-4143-9F4A-B480059A48E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Lösung (ähnlich wie bei mehrwertigen Beziehungen): Hilfsknoten für die geschachtelte Aussag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7" name="Oval 2"/>
          <p:cNvSpPr/>
          <p:nvPr/>
        </p:nvSpPr>
        <p:spPr>
          <a:xfrm>
            <a:off x="165240" y="7404120"/>
            <a:ext cx="11023560" cy="2184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9" name="Oval 4"/>
          <p:cNvSpPr/>
          <p:nvPr/>
        </p:nvSpPr>
        <p:spPr>
          <a:xfrm>
            <a:off x="584280" y="7988400"/>
            <a:ext cx="2361960" cy="101592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tl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Oval 5"/>
          <p:cNvSpPr/>
          <p:nvPr/>
        </p:nvSpPr>
        <p:spPr>
          <a:xfrm>
            <a:off x="4025880" y="3200400"/>
            <a:ext cx="2768760" cy="111744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detektiv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1" name="Oval 6"/>
          <p:cNvSpPr/>
          <p:nvPr/>
        </p:nvSpPr>
        <p:spPr>
          <a:xfrm>
            <a:off x="7848720" y="7975440"/>
            <a:ext cx="2755800" cy="1041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gärtn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4161240" y="4833720"/>
            <a:ext cx="2015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mute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Rectangle 8"/>
          <p:cNvSpPr/>
          <p:nvPr/>
        </p:nvSpPr>
        <p:spPr>
          <a:xfrm>
            <a:off x="3859920" y="7894440"/>
            <a:ext cx="2612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atErmorde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Line 9"/>
          <p:cNvSpPr/>
          <p:nvPr/>
        </p:nvSpPr>
        <p:spPr>
          <a:xfrm flipH="1" flipV="1">
            <a:off x="2941200" y="8473680"/>
            <a:ext cx="4915080" cy="2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Line 10"/>
          <p:cNvSpPr/>
          <p:nvPr/>
        </p:nvSpPr>
        <p:spPr>
          <a:xfrm flipH="1" flipV="1">
            <a:off x="5417640" y="4333680"/>
            <a:ext cx="33480" cy="3098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79BE-B543-4CA3-9591-F6A81C6E9E4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Lösung (ähnlich wie bei mehrwertigen Beziehungen): Hilfsknoten für die geschachtelte Aussag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9" name="Oval 3"/>
          <p:cNvSpPr/>
          <p:nvPr/>
        </p:nvSpPr>
        <p:spPr>
          <a:xfrm>
            <a:off x="584280" y="7988400"/>
            <a:ext cx="2361960" cy="101592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tl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Oval 4"/>
          <p:cNvSpPr/>
          <p:nvPr/>
        </p:nvSpPr>
        <p:spPr>
          <a:xfrm>
            <a:off x="4025880" y="3200400"/>
            <a:ext cx="2768760" cy="111744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detektiv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Oval 5"/>
          <p:cNvSpPr/>
          <p:nvPr/>
        </p:nvSpPr>
        <p:spPr>
          <a:xfrm>
            <a:off x="3530520" y="7620120"/>
            <a:ext cx="3861000" cy="114300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atErmorde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Oval 6"/>
          <p:cNvSpPr/>
          <p:nvPr/>
        </p:nvSpPr>
        <p:spPr>
          <a:xfrm>
            <a:off x="7848720" y="7975440"/>
            <a:ext cx="2755800" cy="1041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gärtn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Rectangle 7"/>
          <p:cNvSpPr/>
          <p:nvPr/>
        </p:nvSpPr>
        <p:spPr>
          <a:xfrm>
            <a:off x="4147920" y="4834080"/>
            <a:ext cx="1736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mute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Line 8"/>
          <p:cNvSpPr/>
          <p:nvPr/>
        </p:nvSpPr>
        <p:spPr>
          <a:xfrm flipH="1" flipV="1">
            <a:off x="5418000" y="4333680"/>
            <a:ext cx="15840" cy="1355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Oval 9"/>
          <p:cNvSpPr/>
          <p:nvPr/>
        </p:nvSpPr>
        <p:spPr>
          <a:xfrm>
            <a:off x="4140360" y="5689440"/>
            <a:ext cx="2641320" cy="10162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theori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Line 10"/>
          <p:cNvSpPr/>
          <p:nvPr/>
        </p:nvSpPr>
        <p:spPr>
          <a:xfrm flipH="1" flipV="1">
            <a:off x="6560640" y="6480000"/>
            <a:ext cx="1770120" cy="1648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7" name="Line 11"/>
          <p:cNvSpPr/>
          <p:nvPr/>
        </p:nvSpPr>
        <p:spPr>
          <a:xfrm flipV="1">
            <a:off x="2674800" y="6479640"/>
            <a:ext cx="1727280" cy="1698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Line 12"/>
          <p:cNvSpPr/>
          <p:nvPr/>
        </p:nvSpPr>
        <p:spPr>
          <a:xfrm flipV="1">
            <a:off x="5451480" y="6705360"/>
            <a:ext cx="0" cy="94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Rectangle 13"/>
          <p:cNvSpPr/>
          <p:nvPr/>
        </p:nvSpPr>
        <p:spPr>
          <a:xfrm>
            <a:off x="1437840" y="6751800"/>
            <a:ext cx="1532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ubjec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Rectangle 14"/>
          <p:cNvSpPr/>
          <p:nvPr/>
        </p:nvSpPr>
        <p:spPr>
          <a:xfrm>
            <a:off x="4122720" y="6878880"/>
            <a:ext cx="185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predica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Rectangle 15"/>
          <p:cNvSpPr/>
          <p:nvPr/>
        </p:nvSpPr>
        <p:spPr>
          <a:xfrm>
            <a:off x="7387920" y="6751800"/>
            <a:ext cx="1381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objec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DE2C-B064-4545-8A7A-9365B7476C5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chtung: reifiziertes Tripel muss nicht unbedingt gelt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(wäre auch nicht immer sinnvoll, z.B. bei Aussagen wie: „Der Detektiv bezweifelt, dass der Butler den Gärtner ermordet hat.“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alls dies gewünscht ist, muss das originale (unreifizierte) Tripel dem RDF-Dokument nochmals hinzugefügt werd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der Klassenbezeichner 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tatement</a:t>
            </a: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dient zur Kennzeichnung aller solcher Aussagen-Hilfsknot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alls auf eine Aussage nicht (extern) Bezug genommen wird, kann der entsprechende Hilfsknoten ein bnode sei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BFE5-15C4-4D90-BE59-37ED26C97BF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Übungsaufgabe: noch eine Kriminalgeschichte..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08" name="Picture 3" descr=""/>
          <p:cNvPicPr/>
          <p:nvPr/>
        </p:nvPicPr>
        <p:blipFill>
          <a:blip r:embed="rId1"/>
          <a:stretch/>
        </p:blipFill>
        <p:spPr>
          <a:xfrm>
            <a:off x="584280" y="3224160"/>
            <a:ext cx="11866320" cy="5462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D363-E229-43A6-BE0F-429D00A14AE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8DA1-25AF-4DB5-AD91-A441EDCA4EC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EBFB-9150-4E08-9262-2C84D6404C8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Zusatzinform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wie bei Programmiersprachen manchmal Hinzufügen von Kommentaren (ohne Auswirkung auf Semantik) wünschenswer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weck: Erhöhung der Verständlichkeit für menschlichen Nutze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s empfiehlt sich (z.B. aus Tool-Kompatibilitätsgründen) auch dieses Wissen als Graph zu repräsentier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so: Satz von Propertys, die diesem Zweck dienen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A25F-4812-4314-A818-2C65E9E450B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Zusatzinform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63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label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perty, die einer (beliebigen) Ressource einen alternativen Namen zuweist (Liter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oftmals sind URIs schwer lesbar; zumindest „unhandlich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durch 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label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zugewiesener Name wird z.B. häufig von Tools bei der graphischen Darstellung verwende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eispiel (incl. Sprachinformation):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inidae"&gt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Menschenaffen&lt;/rdfs:label&gt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33DC-E003-4CFC-8D3B-6EA5AE95135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Zusatzinform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63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mment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perty, die einer (beliebigen) Ressource einen umfangreichen Kommentar zuweist (Liter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einhaltet z.B. natürlichsprachliche Definition einer neu eingeführten Klasse - erleichtert spätere intentionsgemäße Wiederverwendung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eeAlso, rdfs:definedBy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perties, die Ressourcen (URIs!) angeben, die weitere Informationen bzw. eine Definition der Subjekt-Ressource bereitstellen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C58A-0786-4C22-85C6-10E7761B3F0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Zusatzinform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63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wendungsbeispi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24" name="Picture 3" descr=""/>
          <p:cNvPicPr/>
          <p:nvPr/>
        </p:nvPicPr>
        <p:blipFill>
          <a:blip r:embed="rId1"/>
          <a:stretch/>
        </p:blipFill>
        <p:spPr>
          <a:xfrm>
            <a:off x="2171880" y="2971800"/>
            <a:ext cx="9727920" cy="57387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7DDE-8EF0-46CE-8FC8-A8BCAC437A3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2590-5B23-4A11-932A-A7C7DF61AA7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Ontologi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it den durch RDFS bereitgestellten Sprachmitteln können bestimmte Gegenstandsbereiche bereits in wichtigen Aspekten semantisch erfasst werd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uf der Basis der speziellen Semantik von RDFS kann schon ein gewisses Maß impliziten Wissens geschlussfolgert werd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ithin stellt RDFS eine (wenn auch noch vergleichsweise wenig ausdrucksstarke) Ontologiesprache da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D4F3-C08F-4E44-98F9-DBB89C128C6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Ontologien -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633" name="Picture 2" descr=""/>
          <p:cNvPicPr/>
          <p:nvPr/>
        </p:nvPicPr>
        <p:blipFill>
          <a:blip r:embed="rId1"/>
          <a:stretch/>
        </p:blipFill>
        <p:spPr>
          <a:xfrm>
            <a:off x="203040" y="1892160"/>
            <a:ext cx="8026560" cy="302292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3" descr=""/>
          <p:cNvPicPr/>
          <p:nvPr/>
        </p:nvPicPr>
        <p:blipFill>
          <a:blip r:embed="rId2"/>
          <a:stretch/>
        </p:blipFill>
        <p:spPr>
          <a:xfrm>
            <a:off x="3529080" y="3195720"/>
            <a:ext cx="9450360" cy="6507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2C48-FC9D-4B3D-9AFC-8237013D207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1 Dokument - 3 Interpret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7" name="Rectangle 2"/>
          <p:cNvSpPr/>
          <p:nvPr/>
        </p:nvSpPr>
        <p:spPr>
          <a:xfrm>
            <a:off x="647640" y="4114800"/>
            <a:ext cx="116334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terpretation als XML: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38" name="Group 3"/>
          <p:cNvGrpSpPr/>
          <p:nvPr/>
        </p:nvGrpSpPr>
        <p:grpSpPr>
          <a:xfrm>
            <a:off x="1562040" y="1879560"/>
            <a:ext cx="11212560" cy="2070000"/>
            <a:chOff x="1562040" y="1879560"/>
            <a:chExt cx="11212560" cy="2070000"/>
          </a:xfrm>
        </p:grpSpPr>
        <p:sp>
          <p:nvSpPr>
            <p:cNvPr id="639" name="AutoShape 4"/>
            <p:cNvSpPr/>
            <p:nvPr/>
          </p:nvSpPr>
          <p:spPr>
            <a:xfrm>
              <a:off x="1562040" y="1879560"/>
              <a:ext cx="11209320" cy="2070000"/>
            </a:xfrm>
            <a:prstGeom prst="pi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0" name="AutoShape 5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solidFill>
              <a:srgbClr val="ccc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1" name="AutoShape 6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Rectangle 7"/>
            <p:cNvSpPr/>
            <p:nvPr/>
          </p:nvSpPr>
          <p:spPr>
            <a:xfrm>
              <a:off x="1562040" y="2087640"/>
              <a:ext cx="1112364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13760" tIns="38160" bIns="38160" anchor="ctr">
              <a:noAutofit/>
            </a:bodyPr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ID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Truck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type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http://www.w3.org/2000/01/rdf-schema#Class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s:subClassOf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#MotorVehicl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/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Group 8"/>
          <p:cNvGrpSpPr/>
          <p:nvPr/>
        </p:nvGrpSpPr>
        <p:grpSpPr>
          <a:xfrm>
            <a:off x="938160" y="5029200"/>
            <a:ext cx="11017800" cy="3978360"/>
            <a:chOff x="938160" y="5029200"/>
            <a:chExt cx="11017800" cy="3978360"/>
          </a:xfrm>
        </p:grpSpPr>
        <p:grpSp>
          <p:nvGrpSpPr>
            <p:cNvPr id="644" name="Group 9"/>
            <p:cNvGrpSpPr/>
            <p:nvPr/>
          </p:nvGrpSpPr>
          <p:grpSpPr>
            <a:xfrm>
              <a:off x="4437360" y="5029200"/>
              <a:ext cx="3079800" cy="754200"/>
              <a:chOff x="4437360" y="5029200"/>
              <a:chExt cx="3079800" cy="754200"/>
            </a:xfrm>
          </p:grpSpPr>
          <p:sp>
            <p:nvSpPr>
              <p:cNvPr id="645" name="Oval 10"/>
              <p:cNvSpPr/>
              <p:nvPr/>
            </p:nvSpPr>
            <p:spPr>
              <a:xfrm>
                <a:off x="4437360" y="5029200"/>
                <a:ext cx="3079800" cy="75420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46" name="Rectangle 11"/>
              <p:cNvSpPr/>
              <p:nvPr/>
            </p:nvSpPr>
            <p:spPr>
              <a:xfrm>
                <a:off x="4741560" y="5164560"/>
                <a:ext cx="24710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Description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47" name="Group 12"/>
            <p:cNvGrpSpPr/>
            <p:nvPr/>
          </p:nvGrpSpPr>
          <p:grpSpPr>
            <a:xfrm>
              <a:off x="5289120" y="6108840"/>
              <a:ext cx="1370880" cy="753840"/>
              <a:chOff x="5289120" y="6108840"/>
              <a:chExt cx="1370880" cy="753840"/>
            </a:xfrm>
          </p:grpSpPr>
          <p:sp>
            <p:nvSpPr>
              <p:cNvPr id="648" name="Oval 13"/>
              <p:cNvSpPr/>
              <p:nvPr/>
            </p:nvSpPr>
            <p:spPr>
              <a:xfrm>
                <a:off x="5311800" y="6108840"/>
                <a:ext cx="1323720" cy="75384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49" name="Rectangle 14"/>
              <p:cNvSpPr/>
              <p:nvPr/>
            </p:nvSpPr>
            <p:spPr>
              <a:xfrm>
                <a:off x="5289120" y="6248160"/>
                <a:ext cx="137088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type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50" name="Group 15"/>
            <p:cNvGrpSpPr/>
            <p:nvPr/>
          </p:nvGrpSpPr>
          <p:grpSpPr>
            <a:xfrm>
              <a:off x="938160" y="6324480"/>
              <a:ext cx="1841400" cy="546120"/>
              <a:chOff x="938160" y="6324480"/>
              <a:chExt cx="1841400" cy="546120"/>
            </a:xfrm>
          </p:grpSpPr>
          <p:sp>
            <p:nvSpPr>
              <p:cNvPr id="651" name="Oval 16"/>
              <p:cNvSpPr/>
              <p:nvPr/>
            </p:nvSpPr>
            <p:spPr>
              <a:xfrm>
                <a:off x="938160" y="6324480"/>
                <a:ext cx="1841400" cy="54612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52" name="Rectangle 17"/>
              <p:cNvSpPr/>
              <p:nvPr/>
            </p:nvSpPr>
            <p:spPr>
              <a:xfrm>
                <a:off x="1335240" y="6354720"/>
                <a:ext cx="10476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ID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653" name="Line 18"/>
            <p:cNvSpPr/>
            <p:nvPr/>
          </p:nvSpPr>
          <p:spPr>
            <a:xfrm flipH="1">
              <a:off x="2671560" y="5562720"/>
              <a:ext cx="1841760" cy="866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Rectangle 19"/>
            <p:cNvSpPr/>
            <p:nvPr/>
          </p:nvSpPr>
          <p:spPr>
            <a:xfrm>
              <a:off x="1363320" y="7396200"/>
              <a:ext cx="976680" cy="396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600" tIns="0" bIns="0" anchor="ctr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Truck</a:t>
              </a:r>
              <a:endParaRPr b="0" lang="en-US" sz="2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5" name="Line 20"/>
            <p:cNvSpPr/>
            <p:nvPr/>
          </p:nvSpPr>
          <p:spPr>
            <a:xfrm>
              <a:off x="5950080" y="5778360"/>
              <a:ext cx="180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6" name="Line 21"/>
            <p:cNvSpPr/>
            <p:nvPr/>
          </p:nvSpPr>
          <p:spPr>
            <a:xfrm flipH="1">
              <a:off x="5164560" y="6756480"/>
              <a:ext cx="433440" cy="64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7" name="Line 22"/>
            <p:cNvSpPr/>
            <p:nvPr/>
          </p:nvSpPr>
          <p:spPr>
            <a:xfrm>
              <a:off x="1805040" y="6870600"/>
              <a:ext cx="1440" cy="4302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8" name="Rectangle 23"/>
            <p:cNvSpPr/>
            <p:nvPr/>
          </p:nvSpPr>
          <p:spPr>
            <a:xfrm>
              <a:off x="1271160" y="8556120"/>
              <a:ext cx="7320960" cy="4514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600" tIns="0" bIns="0" anchor="ctr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 u="sng">
                  <a:solidFill>
                    <a:srgbClr val="009999"/>
                  </a:solidFill>
                  <a:uFillTx/>
                  <a:latin typeface="American Typewriter"/>
                  <a:ea typeface="American Typewriter"/>
                  <a:hlinkClick r:id="rId1"/>
                </a:rPr>
                <a:t>http://www.w3.org/2000/01/rdf-schema#</a:t>
              </a:r>
              <a:r>
                <a:rPr b="0" lang="en-US" sz="26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Class</a:t>
              </a:r>
              <a:endParaRPr b="0" lang="en-US" sz="2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Line 24"/>
            <p:cNvSpPr/>
            <p:nvPr/>
          </p:nvSpPr>
          <p:spPr>
            <a:xfrm>
              <a:off x="4974120" y="7950240"/>
              <a:ext cx="2880" cy="5443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0" name="Line 25"/>
            <p:cNvSpPr/>
            <p:nvPr/>
          </p:nvSpPr>
          <p:spPr>
            <a:xfrm>
              <a:off x="7115760" y="5676840"/>
              <a:ext cx="1733760" cy="43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661" name="Group 26"/>
            <p:cNvGrpSpPr/>
            <p:nvPr/>
          </p:nvGrpSpPr>
          <p:grpSpPr>
            <a:xfrm>
              <a:off x="9530640" y="7188120"/>
              <a:ext cx="2425320" cy="754200"/>
              <a:chOff x="9530640" y="7188120"/>
              <a:chExt cx="2425320" cy="754200"/>
            </a:xfrm>
          </p:grpSpPr>
          <p:sp>
            <p:nvSpPr>
              <p:cNvPr id="662" name="Oval 27"/>
              <p:cNvSpPr/>
              <p:nvPr/>
            </p:nvSpPr>
            <p:spPr>
              <a:xfrm>
                <a:off x="9530640" y="7188120"/>
                <a:ext cx="2425320" cy="75420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63" name="Rectangle 28"/>
              <p:cNvSpPr/>
              <p:nvPr/>
            </p:nvSpPr>
            <p:spPr>
              <a:xfrm>
                <a:off x="9711720" y="7331400"/>
                <a:ext cx="20610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resource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64" name="Group 29"/>
            <p:cNvGrpSpPr/>
            <p:nvPr/>
          </p:nvGrpSpPr>
          <p:grpSpPr>
            <a:xfrm>
              <a:off x="3759480" y="7188120"/>
              <a:ext cx="2425320" cy="754200"/>
              <a:chOff x="3759480" y="7188120"/>
              <a:chExt cx="2425320" cy="754200"/>
            </a:xfrm>
          </p:grpSpPr>
          <p:sp>
            <p:nvSpPr>
              <p:cNvPr id="665" name="Oval 30"/>
              <p:cNvSpPr/>
              <p:nvPr/>
            </p:nvSpPr>
            <p:spPr>
              <a:xfrm>
                <a:off x="3759480" y="7188120"/>
                <a:ext cx="2425320" cy="75420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66" name="Rectangle 31"/>
              <p:cNvSpPr/>
              <p:nvPr/>
            </p:nvSpPr>
            <p:spPr>
              <a:xfrm>
                <a:off x="3940560" y="7331400"/>
                <a:ext cx="20610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resource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67" name="Group 32"/>
            <p:cNvGrpSpPr/>
            <p:nvPr/>
          </p:nvGrpSpPr>
          <p:grpSpPr>
            <a:xfrm>
              <a:off x="7904880" y="5994360"/>
              <a:ext cx="3110040" cy="754200"/>
              <a:chOff x="7904880" y="5994360"/>
              <a:chExt cx="3110040" cy="754200"/>
            </a:xfrm>
          </p:grpSpPr>
          <p:sp>
            <p:nvSpPr>
              <p:cNvPr id="668" name="Oval 33"/>
              <p:cNvSpPr/>
              <p:nvPr/>
            </p:nvSpPr>
            <p:spPr>
              <a:xfrm>
                <a:off x="7904880" y="5994360"/>
                <a:ext cx="3110040" cy="75420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69" name="Rectangle 34"/>
              <p:cNvSpPr/>
              <p:nvPr/>
            </p:nvSpPr>
            <p:spPr>
              <a:xfrm>
                <a:off x="8244720" y="6139080"/>
                <a:ext cx="242856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subClassOf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670" name="Line 35"/>
            <p:cNvSpPr/>
            <p:nvPr/>
          </p:nvSpPr>
          <p:spPr>
            <a:xfrm>
              <a:off x="9743400" y="6756480"/>
              <a:ext cx="866880" cy="43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1" name="Rectangle 36"/>
            <p:cNvSpPr/>
            <p:nvPr/>
          </p:nvSpPr>
          <p:spPr>
            <a:xfrm>
              <a:off x="9516960" y="8583840"/>
              <a:ext cx="2387880" cy="396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600" tIns="0" bIns="0" anchor="ctr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#MotorVehicle</a:t>
              </a:r>
              <a:endParaRPr b="0" lang="en-US" sz="2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2" name="Line 37"/>
            <p:cNvSpPr/>
            <p:nvPr/>
          </p:nvSpPr>
          <p:spPr>
            <a:xfrm>
              <a:off x="10827720" y="7950240"/>
              <a:ext cx="1800" cy="5443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>
    <p:cover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CDFC-24E4-4917-ACB9-F663A919398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1 Dokument - 3 Interpret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75" name="Rectangle 2"/>
          <p:cNvSpPr/>
          <p:nvPr/>
        </p:nvSpPr>
        <p:spPr>
          <a:xfrm>
            <a:off x="914400" y="4051440"/>
            <a:ext cx="11417400" cy="67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erpretation als RDF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eres Datenmodel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merican Typewriter"/>
                <a:ea typeface="American Typewriter"/>
              </a:rPr>
              <a:t>rdf:Descrip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American Typewriter"/>
                <a:ea typeface="American Typewriter"/>
              </a:rPr>
              <a:t>rdf: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und </a:t>
            </a:r>
            <a:r>
              <a:rPr b="0" lang="en-US" sz="3200" spc="-1" strike="noStrike">
                <a:solidFill>
                  <a:srgbClr val="ff0000"/>
                </a:solidFill>
                <a:latin typeface="American Typewriter"/>
                <a:ea typeface="American Typewriter"/>
              </a:rPr>
              <a:t>rdf:resou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aben eine festgelegte Bedeutu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subject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predicate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objec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  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#Truck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type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las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#Truck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#MotorVehic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76" name="Group 3"/>
          <p:cNvGrpSpPr/>
          <p:nvPr/>
        </p:nvGrpSpPr>
        <p:grpSpPr>
          <a:xfrm>
            <a:off x="7130880" y="8688240"/>
            <a:ext cx="1727280" cy="736560"/>
            <a:chOff x="7130880" y="8688240"/>
            <a:chExt cx="1727280" cy="736560"/>
          </a:xfrm>
        </p:grpSpPr>
        <p:sp>
          <p:nvSpPr>
            <p:cNvPr id="677" name="Oval 4"/>
            <p:cNvSpPr/>
            <p:nvPr/>
          </p:nvSpPr>
          <p:spPr>
            <a:xfrm>
              <a:off x="7130880" y="8688240"/>
              <a:ext cx="1727280" cy="73656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8" name="Rectangle 5"/>
            <p:cNvSpPr/>
            <p:nvPr/>
          </p:nvSpPr>
          <p:spPr>
            <a:xfrm>
              <a:off x="7270560" y="8820000"/>
              <a:ext cx="144612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95040" tIns="38160" bIns="38160" anchor="ctr">
              <a:no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American Typewriter"/>
                  <a:ea typeface="American Typewriter"/>
                </a:rPr>
                <a:t>#Truck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79" name="Group 6"/>
          <p:cNvGrpSpPr/>
          <p:nvPr/>
        </p:nvGrpSpPr>
        <p:grpSpPr>
          <a:xfrm>
            <a:off x="10051920" y="8690040"/>
            <a:ext cx="2438280" cy="749160"/>
            <a:chOff x="10051920" y="8690040"/>
            <a:chExt cx="2438280" cy="749160"/>
          </a:xfrm>
        </p:grpSpPr>
        <p:sp>
          <p:nvSpPr>
            <p:cNvPr id="680" name="Oval 7"/>
            <p:cNvSpPr/>
            <p:nvPr/>
          </p:nvSpPr>
          <p:spPr>
            <a:xfrm>
              <a:off x="10213920" y="8690040"/>
              <a:ext cx="2112840" cy="74916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1" name="Rectangle 8"/>
            <p:cNvSpPr/>
            <p:nvPr/>
          </p:nvSpPr>
          <p:spPr>
            <a:xfrm>
              <a:off x="10051920" y="8831160"/>
              <a:ext cx="243828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95040" tIns="38160" bIns="38160" anchor="ctr">
              <a:no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American Typewriter"/>
                  <a:ea typeface="American Typewriter"/>
                </a:rPr>
                <a:t>rdfs:Class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82" name="Line 9"/>
          <p:cNvSpPr/>
          <p:nvPr/>
        </p:nvSpPr>
        <p:spPr>
          <a:xfrm>
            <a:off x="8842320" y="9045720"/>
            <a:ext cx="1422360" cy="10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83" name="Group 10"/>
          <p:cNvGrpSpPr/>
          <p:nvPr/>
        </p:nvGrpSpPr>
        <p:grpSpPr>
          <a:xfrm>
            <a:off x="928800" y="8636040"/>
            <a:ext cx="3720600" cy="850680"/>
            <a:chOff x="928800" y="8636040"/>
            <a:chExt cx="3720600" cy="850680"/>
          </a:xfrm>
        </p:grpSpPr>
        <p:sp>
          <p:nvSpPr>
            <p:cNvPr id="684" name="Oval 11"/>
            <p:cNvSpPr/>
            <p:nvPr/>
          </p:nvSpPr>
          <p:spPr>
            <a:xfrm>
              <a:off x="928800" y="8636040"/>
              <a:ext cx="3720600" cy="85068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5" name="Rectangle 12"/>
            <p:cNvSpPr/>
            <p:nvPr/>
          </p:nvSpPr>
          <p:spPr>
            <a:xfrm>
              <a:off x="1422360" y="8798040"/>
              <a:ext cx="2733120" cy="52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95040" tIns="38160" bIns="38160" anchor="ctr">
              <a:no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American Typewriter"/>
                  <a:ea typeface="American Typewriter"/>
                </a:rPr>
                <a:t>#MotorVehicle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86" name="Line 13"/>
          <p:cNvSpPr/>
          <p:nvPr/>
        </p:nvSpPr>
        <p:spPr>
          <a:xfrm flipH="1">
            <a:off x="4649400" y="9058320"/>
            <a:ext cx="2444760" cy="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7" name="Rectangle 14"/>
          <p:cNvSpPr/>
          <p:nvPr/>
        </p:nvSpPr>
        <p:spPr>
          <a:xfrm>
            <a:off x="8837280" y="8470800"/>
            <a:ext cx="1423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typ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8" name="Rectangle 15"/>
          <p:cNvSpPr/>
          <p:nvPr/>
        </p:nvSpPr>
        <p:spPr>
          <a:xfrm>
            <a:off x="4560840" y="8470800"/>
            <a:ext cx="2730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89" name="Group 16"/>
          <p:cNvGrpSpPr/>
          <p:nvPr/>
        </p:nvGrpSpPr>
        <p:grpSpPr>
          <a:xfrm>
            <a:off x="1562040" y="1879560"/>
            <a:ext cx="11212560" cy="2070000"/>
            <a:chOff x="1562040" y="1879560"/>
            <a:chExt cx="11212560" cy="2070000"/>
          </a:xfrm>
        </p:grpSpPr>
        <p:sp>
          <p:nvSpPr>
            <p:cNvPr id="690" name="AutoShape 17"/>
            <p:cNvSpPr/>
            <p:nvPr/>
          </p:nvSpPr>
          <p:spPr>
            <a:xfrm>
              <a:off x="1562040" y="1879560"/>
              <a:ext cx="11209320" cy="2070000"/>
            </a:xfrm>
            <a:prstGeom prst="pi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1" name="AutoShape 18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solidFill>
              <a:srgbClr val="ccc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2" name="AutoShape 19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3" name="Rectangle 20"/>
            <p:cNvSpPr/>
            <p:nvPr/>
          </p:nvSpPr>
          <p:spPr>
            <a:xfrm>
              <a:off x="1562040" y="2087640"/>
              <a:ext cx="1112364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13760" tIns="38160" bIns="38160" anchor="ctr">
              <a:noAutofit/>
            </a:bodyPr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ID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Truck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type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http://www.w3.org/2000/01/rdf-schema#Class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s:subClassOf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#MotorVehicl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/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FF6F-7C1B-47B4-B5F7-816EA4C3D95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chemawissen mit RDF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 bietet universelle Möglichkeit zur Kodierung von faktischen Daten im Web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= Aussagen über einzelne Ressourcen (Individuen) und deren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ünschenswert: Aussagen über generische Mengen von Individuen (Klassen), z.B. Verlage, Organisationen, Personen etc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63" name="Picture 3" descr=""/>
          <p:cNvPicPr/>
          <p:nvPr/>
        </p:nvPicPr>
        <p:blipFill>
          <a:blip r:embed="rId1"/>
          <a:stretch/>
        </p:blipFill>
        <p:spPr>
          <a:xfrm>
            <a:off x="2146320" y="3517920"/>
            <a:ext cx="8705880" cy="7491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2461-8F2A-4AC8-811B-FCCE3035022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1 Dokument - 3 Interpret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96" name="Rectangle 2"/>
          <p:cNvSpPr/>
          <p:nvPr/>
        </p:nvSpPr>
        <p:spPr>
          <a:xfrm>
            <a:off x="952560" y="4257720"/>
            <a:ext cx="113792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terpretation als RDF Schema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eder anderes Datenmodel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merican Typewriter"/>
                <a:ea typeface="American Typewriter"/>
              </a:rPr>
              <a:t>rdf:typ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d </a:t>
            </a:r>
            <a:r>
              <a:rPr b="0" lang="en-US" sz="2400" spc="-1" strike="noStrike">
                <a:solidFill>
                  <a:srgbClr val="8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rden speziell interpretier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7" name="Line 3"/>
          <p:cNvSpPr/>
          <p:nvPr/>
        </p:nvSpPr>
        <p:spPr>
          <a:xfrm flipV="1">
            <a:off x="6525360" y="7073640"/>
            <a:ext cx="3240" cy="162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8" name="Rectangle 4"/>
          <p:cNvSpPr/>
          <p:nvPr/>
        </p:nvSpPr>
        <p:spPr>
          <a:xfrm>
            <a:off x="6661440" y="7620120"/>
            <a:ext cx="927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-a“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9" name="Line 5"/>
          <p:cNvSpPr/>
          <p:nvPr/>
        </p:nvSpPr>
        <p:spPr>
          <a:xfrm>
            <a:off x="6310440" y="7074000"/>
            <a:ext cx="431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0" name="Line 6"/>
          <p:cNvSpPr/>
          <p:nvPr/>
        </p:nvSpPr>
        <p:spPr>
          <a:xfrm flipV="1">
            <a:off x="6309720" y="6756120"/>
            <a:ext cx="215640" cy="32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1" name="Line 7"/>
          <p:cNvSpPr/>
          <p:nvPr/>
        </p:nvSpPr>
        <p:spPr>
          <a:xfrm flipH="1" flipV="1">
            <a:off x="6525720" y="6756120"/>
            <a:ext cx="217800" cy="32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2" name="Rectangle 8"/>
          <p:cNvSpPr/>
          <p:nvPr/>
        </p:nvSpPr>
        <p:spPr>
          <a:xfrm>
            <a:off x="5218920" y="6263640"/>
            <a:ext cx="2557080" cy="4269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ctr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merican Typewriter"/>
                <a:ea typeface="American Typewriter"/>
              </a:rPr>
              <a:t>#MotorVehic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3" name="Rectangle 9"/>
          <p:cNvSpPr/>
          <p:nvPr/>
        </p:nvSpPr>
        <p:spPr>
          <a:xfrm>
            <a:off x="5870160" y="8778240"/>
            <a:ext cx="1269360" cy="4269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ctr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merican Typewriter"/>
                <a:ea typeface="American Typewriter"/>
              </a:rPr>
              <a:t>#Truc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04" name="Group 10"/>
          <p:cNvGrpSpPr/>
          <p:nvPr/>
        </p:nvGrpSpPr>
        <p:grpSpPr>
          <a:xfrm>
            <a:off x="1562040" y="1879560"/>
            <a:ext cx="11212560" cy="2070000"/>
            <a:chOff x="1562040" y="1879560"/>
            <a:chExt cx="11212560" cy="2070000"/>
          </a:xfrm>
        </p:grpSpPr>
        <p:sp>
          <p:nvSpPr>
            <p:cNvPr id="705" name="AutoShape 11"/>
            <p:cNvSpPr/>
            <p:nvPr/>
          </p:nvSpPr>
          <p:spPr>
            <a:xfrm>
              <a:off x="1562040" y="1879560"/>
              <a:ext cx="11209320" cy="2070000"/>
            </a:xfrm>
            <a:prstGeom prst="pi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6" name="AutoShape 12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solidFill>
              <a:srgbClr val="ccc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7" name="AutoShape 13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8" name="Rectangle 14"/>
            <p:cNvSpPr/>
            <p:nvPr/>
          </p:nvSpPr>
          <p:spPr>
            <a:xfrm>
              <a:off x="1562040" y="2087640"/>
              <a:ext cx="1112364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13760" tIns="38160" bIns="38160" anchor="ctr">
              <a:noAutofit/>
            </a:bodyPr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ID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Truck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type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http://www.w3.org/2000/01/rdf-schema#Class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s:subClassOf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#MotorVehicl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/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9495-242A-47F5-B7B4-1F66EE9CA76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chemawissen mit RDF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eiterhin wünschenswert: Spezifikation der logischen Zusammenhänge zwischen Individuen, Klassen und Beziehungen, um möglichst viel Semantik des Gegenstandsbereiches einzufangen, z.B.:</a:t>
            </a:r>
            <a:br>
              <a:rPr sz="4200"/>
            </a:b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"Verlage sind Organisationen."</a:t>
            </a:r>
            <a:br>
              <a:rPr sz="4200"/>
            </a:b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"Nur Personen schreiben Bücher.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 Datenbanksprache: Schemawi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369D-239C-40F4-9CC4-D749107603C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chemawissen mit RDF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9563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 Schema (RDFS)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eil der W3C Recommendation zu RDF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rmöglicht Spezifikation von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schematischem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(auch: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terminologischem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)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Wiss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pezielles RDF-Vokabular (also: jedes RDFS-Dokument ist ein RDF-Dokumen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amensraum (i.d.R. abgekürzt mit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) :</a:t>
            </a:r>
            <a:br>
              <a:rPr sz="3600"/>
            </a:br>
            <a:r>
              <a:rPr b="0" lang="en-US" sz="3600" spc="-1" strike="noStrike" u="sng">
                <a:solidFill>
                  <a:srgbClr val="009999"/>
                </a:solidFill>
                <a:uFillTx/>
                <a:latin typeface="American Typewriter"/>
                <a:ea typeface="American Typewriter"/>
                <a:hlinkClick r:id="rId1"/>
              </a:rPr>
              <a:t>http://www.w3.org/2000/01/rdf-schema#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9B43-54C8-4B3D-8215-64C5B75BBEE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chemawissen mit RDF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891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 Schema (RDFS)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jedoch: Vokabular nicht themengebunden (wie z.B. bei FOAF), sondern generisch 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5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rlaubt die Spezifikation (von Teilen) der Semantik beliebiger RDF-Vokabulare (ist also eine Art „Metavokabular“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5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Vorteil: jede Software mit RDFS-Unterstützung interpretiert jedes vermittels RDFS definierte Vokabular korrekt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5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Funktionalität macht RDFS zu einer Ontologiesprache (für leichtgewichtige - engl.: lightweight - Ontologien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5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„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A little semantics goes a long way.“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F055-47C7-4844-B21C-E609A337D55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5:49:41Z</dcterms:created>
  <dc:creator/>
  <dc:description/>
  <cp:keywords/>
  <dc:language>en-US</dc:language>
  <cp:lastModifiedBy>Sebastian Rudolph</cp:lastModifiedBy>
  <dcterms:modified xsi:type="dcterms:W3CDTF">2009-11-02T22:22:13Z</dcterms:modified>
  <cp:revision>4</cp:revision>
  <dc:subject/>
  <dc:title>Folie 1</dc:title>
</cp:coreProperties>
</file>